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03F-9F2A-45BE-B0E3-B44FB75F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AE8-A0CF-42D7-A0A5-C0F9E9B6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EC1C0-02D7-4F2B-BA64-7A471E8A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197B3-7E15-407F-B939-E73C5B31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1EA82-9710-4C72-9FD5-3A668180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9DFC2-3E9A-4DF5-9C68-5F3A5FA3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84E45-51E9-40EE-852F-1D943037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63055-0A5A-4829-B80F-26AC81C3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3A55E-1D01-4979-8DE6-F29BC2A6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28440-535F-44CC-87C1-FE520768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69846-D045-451A-B5FD-B71E614C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57A42-B17A-4F55-A687-3D1245B5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C88-93A0-44ED-B745-C22B39B6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880A0-ED69-405E-886C-5823D337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E6902-E2C2-4FC8-B44A-348D6C5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71392-57AB-4EC3-92FA-4FF3C89D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6AC9E-267E-418E-A53F-F3559C77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E04CE-F70C-44F0-9295-EA824275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C9E3D-40F9-478E-9096-E72EE5ED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FB122-3703-4B5D-AF63-B9119A26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8575B-7C72-45A8-B8B7-4F72EE3B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30D88-2925-4D7C-8D3E-0BEC9528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7B5BC-CFE6-4090-9E5C-550FB1DA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5F0-F4A1-440C-8602-66101F90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5F24B-DAE3-49FC-A01D-F445FD90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6D262-1B10-4DD0-9FFF-3BF52F52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15538-FFCA-468D-B427-2ADE1177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1F628-36E0-45AC-AF68-26AFBA63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5C23C-F911-4BCC-B265-A67776F1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8ED88-FCE6-4D5C-80F7-27AD1279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E13D6-1167-4F9A-82AC-1D76C06F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4EFB9-C0A8-4463-AEF6-C6C87E52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D9506-F735-4051-8DED-516D41D3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7447C-EFAD-40F6-A0CE-9535AFDD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38FB-30D5-43EB-8279-CDF1D22A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3E9BE-4483-4DB8-99ED-8BD119E4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4ABF8-E68B-496B-91C3-D93C648D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4FCFE-9454-4402-9ABB-9ABA9CCD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B95C2-8EE4-467D-86E9-AB2169DF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D046D-CA7E-4F81-85EA-B1F2936E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A1EBD-AC06-43A6-9430-C8145E5D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E6FAF-6F3B-4016-A888-3B470B0D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67F1A-7D8F-4B8A-9141-BFD4C24C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E5897-BE1D-495F-A5B2-945B0A94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5C452-D7BB-4A13-8C08-2EAAFA14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0315-BFA0-425B-A242-6DA109C2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94661-55BE-436C-A9E1-45EDE199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52427-700E-40EB-9D47-87247B33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13F43-E4AD-4022-8B26-838EAFAF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9C8C6-6AF8-4555-B00F-1AB03C60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6AAF0-707A-4601-8DC4-6DDBD3A0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1ECAF-EB59-44BF-989D-D341301C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27F73-D576-476E-89FB-11C6719B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67C8A-E7E9-46C7-B9E9-F0C0FD62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40E76-BA34-4A62-AC53-0725F35D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E4D41-FDEE-4C35-94D2-DCDAE9A5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259D-3A96-49AB-B8A9-8B2508D9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100F6-3A81-4CD1-94C5-80B58628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F8FBB-24CC-4C12-9180-60E07304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9D217-17AE-4265-B254-F3FA6F6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F5F6F-1F27-4B07-AA8E-DE07320D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466E9-3BB2-4E27-B24E-6569D75C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8039A-B6DC-46D2-BA21-8C430AE4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54D12-A71A-4D91-882F-796F1DB8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DE4D4-B8B2-4D42-88FF-ACF5DCF8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7EF53-B957-43FC-A0B3-1FBE7F88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0BC1F-E076-4DC0-99A6-3D1C91B5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3012-7615-4FE8-A441-B984B70C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2BC5C-8599-470B-A8AE-CC4A059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714FB-E942-4A35-BB15-72C72A40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EE7F0-38CC-481E-8630-89228E26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E9B7A-8595-4F5A-8A47-2293A1C3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4D3E1-D3B8-4A8E-BF90-610B74DD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A7FEF-75A4-47B4-A304-731C5849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1D5DB-37F8-4EF9-B769-242ACADB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EB0C5-CAAE-4B5C-8F69-5B82BCE6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7E02F-175E-4916-8AB4-4840A469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184D0-D890-4A06-B61E-0F73369A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AF0F-A3EB-45F1-9D74-79170962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D7AE1-5BF0-43F9-A496-2A14D765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E9E73-4113-49E9-9BB4-2F52793D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7D411-64B0-4152-80A6-F4C8604C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F74E8-D22B-4241-ACE1-AF5648E8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EA9CB-35FD-4781-83F6-3577476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10772-60C9-479E-B127-3400F1FB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89B94-B063-4A88-B3AC-A8F629EC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F701E-42B3-4966-A88D-9474A41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C635C-AB28-4783-B67A-F10C97C1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6B2C1-A350-4F82-AC7E-0E7FB939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6853-2F11-4F2F-ADE3-20E6B63D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A43D5-8087-4B2C-9CDB-2521E590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E21C2-01E8-44C4-B280-7ABF92F2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E0BCA-F73C-47DC-85F4-148E3F07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97EB0-18DE-49C1-B426-4D986EDD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3946BD-BEE9-424B-9015-D5640C7D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6D4D0-3233-4E69-9AC6-7DAA325E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4D4B54-E501-4D05-89E1-C7F8C11A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A4D7E-9204-4AF8-A736-237AAF0C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DBB48-E28C-4084-BE69-B951CEEB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06A2A-CEBB-4E7E-AD52-46197D8B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E5F7-A85C-42A2-B87E-B705AFA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D31F1-DE86-4118-955B-574912C4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F4E81-98F8-4061-85D4-2A0F7FBC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A8E5F-3FA5-41B0-95C3-B0C512C9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A1649-C8B6-450F-B306-DD8EEADA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1982C-CF82-4775-A36A-69E1B288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922DA-036C-4536-93BF-3BD4D7C2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FCF6C-4CC7-414A-BC24-8944EA82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86628-F29F-4619-8CC9-73B8448E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256869-E301-43E0-8848-390FBA00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CD9D5-73FF-45A6-B31D-3B9C5C35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E51-E431-4F7E-85FD-FBFC255E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2562-F2F0-401C-86F8-0B7E003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FB7E5-D305-4DFB-83C6-4C3FD7A4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80D974-622E-4B61-9C4B-2CF52019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B51A04-B438-44EA-A802-9AD7F63F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F9C0D-0E96-4C2D-A510-D5DB3C55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1D0DF-78A8-439F-8EB5-47553FAB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3BED98-70EB-4FA0-8BC6-D71E1AD2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752C14-7697-44D0-AC79-FDD1DD2A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8DDD3-64D3-4712-8D93-85FF8CEF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104FFD-F618-4AAE-AA76-ED3B58C4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D35305-DFF9-480E-A3C0-6E7D7F9D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BF57-8B1B-48E5-AF2A-1F8A03B0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B96DB-309C-4A4B-B253-EECF89A0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95D65-D92D-4F7B-A05F-56FB0EF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DE10C-FD97-4940-9F85-293E832F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C69039-11AC-46B2-A2F7-51BE18C2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38EEF-25AC-4732-9D90-81B08C5E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88BB79-592B-453C-9223-27AFA735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E1E04-3F6F-4FE6-B50C-6A6264A3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1871C3-26C1-4083-BD49-6556B5EF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266DEF-519C-4FD9-87C0-C525B667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613261-34D4-4492-A666-DE473532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DBD5-B85E-4E33-8D0D-17682802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937482-1F9E-4148-B982-8B4B3EFF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950295-6DE1-4534-A156-580DEB74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856FD7-AB5A-4EA1-A5C1-6BF9F029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E35D3-8941-4FA0-A910-D834C769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25EDB5-811C-4E24-ADF3-BD4A336A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639A29-C0C0-4864-B993-140D7E01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9C0F9-A88A-4214-8C02-FC682B89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F07A22-8E79-4D9F-A5D6-6BF1194A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C48A65-608F-4BC3-ADBD-924DAFC1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2697A-E7A2-4269-80E6-0B3B5BA1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7B56-D435-44AA-B545-FCCAE95E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DB3D1A-BB0F-46B1-B948-EB6C62AB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5C11F5-948A-46C3-8E1A-5081C31F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611D44-D552-49C2-B2C9-1E7EDEF3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505F70-4A47-4234-BFD1-BD9F653A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84F13-15BE-45ED-AEDE-A5520DA3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7A18B-E6C4-4E35-B89F-8B4B4DD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E6BF2-9F9E-43A9-A787-058A75A7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722B4-650D-4823-8073-88D9FD1E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6B495-C669-43C6-BA7C-26901804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B9DE3D-8E3C-44E6-81D7-9ED95AEF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2879-BD86-442F-8EA3-50AD0AA7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9AACC-0B60-4419-9C5C-9A9332EF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A08E7C-0D3E-45AD-A88C-A167279B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59ADD8-BED9-4E31-9202-68D5CD8A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C37330-0BB3-43A2-8CE2-9B288B53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B29628-B4AC-4D8C-A0E1-7821D763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5F70A7-F7D7-4F9F-9E5E-882DFC7F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09456-6F29-4912-B8A9-616418BE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964EFC-D64A-49CE-B3A1-2CBBCB06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CA584D-D006-4539-8435-A357A91B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21EC9B-A67B-4BFA-92EE-0925FCE1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41725-C356-4237-BF68-2BDCA868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59125-0FE9-4E8F-805E-B4DC9C6D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7E7EC-1B57-4582-8005-F7CC8DEA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A07E24-D8F9-41E0-9456-0708DDF3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20FC0B-742D-41F8-AB22-7F7E22B8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6F3F5B-19AE-4A04-AFE6-68037710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7B6589-3597-44E9-ACFD-406A795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DEDBF2-46AB-475B-AD47-BE19FC05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2D16A8-A3B4-4A46-91F5-8CD074BC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1A1EAC-3F8A-4AB7-8D27-84A159C8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73B880-0DB6-4952-8FC3-97646D00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08C3-76E4-4603-91F4-DAF7725D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74DB23-4C9D-4321-9BE1-D95D7FA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254D0-3BF8-415B-9CAA-6A795C4D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5C695F-0814-4F81-9B5F-6007689C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A856D1-F5AE-4187-BD2A-136727E4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7D2784-4723-4C4C-9D33-D506D5ED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988A59-14D0-4C9D-B2AC-912F303D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C1F3A6-B20D-467B-AC62-529FFF3C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3A9E4D-44C1-4697-B379-4270C0B0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DB1836-7101-4D10-9915-58979218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CADC2A-4FC2-4E77-BDEA-900FA28D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9812-019E-445D-89C4-061CB277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33EB38-4DA9-45F3-959C-D5AB2C94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35DD0F-C167-486B-B305-FC205FE2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434D39-F7FE-4DC2-B35E-CB78F10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FB57D8-ACF0-413A-BA16-D67E8778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EBFE7D-B5EC-4042-846A-2A9538EF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157E0C-7BDD-41EF-B1F2-AFEB6822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0168A1-780F-40E3-B939-B2664E2F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FB6FDF-4708-4EB1-898C-AF15D91D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AFAF8D-9E87-45E6-AF78-9ADBBCD3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A45A7C-3CA8-4B6B-B605-F3F34AB3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F0FAD-12C9-4B32-B504-5CEEA79E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F364B1-085A-4361-AAD2-523D7C50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334B0F-1EE0-49ED-925B-488CF0D8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C5B5F9-AC57-4CFA-8823-0D7FD029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712729-AB41-491E-8B52-B7FFE300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9B8608-419B-4843-BDDD-659AD0AA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5EB60C-0FAD-48F7-9B78-F8BD0C22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5EEFCC-C80C-4D26-A640-6D2BEF49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A96535-2ACE-45E9-BBE9-B47B2FBB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2F103B-DD37-4C34-BE51-C36B9F4B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F6FA5C-42C9-4674-94F6-780BBE4A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F58F-2257-4D22-B464-B8BB9CCB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0F679B-E301-4579-B683-7485E5E3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60BE96-CA67-44C9-A21E-C8D3A7D9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CDF019-4A9E-433A-BE59-3364FDE9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F02E15-AA80-4108-82EB-6F43256F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CCCD24-FE99-4B57-B739-74C80945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3BDE7B-988E-4AB4-9443-6A687ADA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42544E-6408-4761-9110-13903584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FC520E-8189-4BB8-BD81-EA594208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B47C18-D5B9-4942-9B91-5DE0C79F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B61436-F04C-4E80-911A-55B9A8D9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2D7-A7A7-4510-8C71-687D4CD0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BD24-A595-4339-8023-F02F1ECF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0B9646-83CF-44A3-A83E-537FEFDA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1303F9-DCED-4ED4-8855-BF2D4784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4404F1-6780-4F84-AFB4-747CA814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80F3E5-1DB5-434C-8248-60156077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618631-75B3-4F51-87EC-352D6E37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250A6E-6329-4CDD-9C8E-1AFA0F7D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97E488-1CF7-498F-A4B6-D780E868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E6647C-DD39-4D42-B208-1B88CB57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21DD2A-6CD3-4FA2-B6A8-C2C79D5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0B3221-7278-4FFE-99A9-1C4D73C3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7DB8-AFED-4E9E-930F-E56DA79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1AE300-4402-42C5-A05C-82D298A7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E87D86-929A-4CCE-9D61-E918DBAD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61D232-2CDE-4901-A178-8CB5ED98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5A3D0A-29A5-4DE1-B039-D7068D6C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8D98F0-7303-4B88-AA10-3CCF009A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918681-D74E-4A0E-B87C-DB69A5AE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273DC2-0AB2-4B60-A927-331394B3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B92D5F-BD79-442D-BDFE-677DCAA5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7594ED-4604-42B6-8304-091D69F0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8E768B-8E28-4E83-A153-36A103E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C7B7-1A7C-42DD-B853-8FAC0EE7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05336C-33EF-474D-A642-F9933635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57308C-B6E0-45FA-8C30-21F23268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BD7D08-F52C-4567-A146-B68DF381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602E9B-5FC5-403A-9E14-AF4DAE66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96608D-A125-481D-B233-360EA136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5030C7-8A2F-4F72-A2E2-0B3C85D3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D7969D-58F8-4ED8-B6DA-70BA5AEF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E5A389-3193-4D24-AC37-7FD92DFD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1F1729-1F9D-4EA5-A72F-0F857B62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59AC36-A9BC-46E2-99B4-41954290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ED8BA-6C44-4D7E-83DE-BAD01F0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F9BF5C-5375-45DA-AC8A-240FED4C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68171B-B406-43F7-BA76-F03DFEFB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FF46B1-9777-4256-BAFB-EF18ED7A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52A8D8-FB5A-4244-8B37-D3064919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0C425D-BB3F-4C2E-A4EF-72D49932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5A28E3-FAA5-457A-9337-5409864F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7E3C3C-331C-4080-A113-11CFA570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8F90C2-7A16-4CB5-A021-50D769EC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AD219A-441F-4DF5-B029-EBB5C177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65E0E8-E70A-47DF-95DF-9F6E7FE0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5535-E735-42EE-B100-8C231F78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E2F5BC-BF1A-4D23-B109-74861C57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5E2B8F-6AA5-4645-9D01-546EA3F4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6F0001-B3E5-4C70-A0AA-85BA27B3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00DDDD-570F-40EB-81E9-8681F449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DFFD94-58C5-4CEA-9BCE-4D075D08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7FA3DB-32EE-490E-809A-2EB9B0CB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86FF6E-BE87-4CE5-BFEA-5A9D8743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D46F9F-0F4F-491E-8A80-AC12159E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1ED00F-DCC1-4420-B8DE-FE04C2E2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4794AD-336F-47D7-961C-6237222F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3AD51-D7CB-414F-B6A1-6DF1171B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8C6EF1-F429-497E-BF86-1DB24ACB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3DDF7C-1BB8-4E73-B18F-3AF13C1A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10484A-2DA8-49EA-A9FA-99230313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3ABE73-8CFE-485F-A5CA-A3922DCE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823176-25AF-44DC-8981-B5543321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71602D-0EA5-4DAD-836E-A948D139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A6B8C9-F5F6-4FC9-B63A-5AD56466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6CA479-96BD-40E1-B0CF-F5855D1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25E158-3F8E-4442-8E22-DDF5989D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AAE7C7-1892-47D9-846A-55CD2B5C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C3DA-4119-48A1-8973-07A0E93C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BDD73D-02D8-4D21-9928-D71D6C4A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021C5D-C6BF-47EE-B7A1-DD81D734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03DBA1-E3FC-403E-BDCF-F83C6C78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B14747-6FB9-4BE1-A2A1-85D9D826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24A24A-CF73-4447-B198-69B2644D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29A5FC-105A-4610-A985-2D09A065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92874F-0E6D-427A-B312-E9E9D15D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C4F647-34F9-4E35-B5BE-3772831E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6578B4-262F-4B9D-940D-FA5F2154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4B8CAA-D44B-42BB-B8FD-397CAE77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F216-BE20-425A-935B-06DC365B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B97C9A-34E0-4C23-8CFC-3BC7BF9A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EC7839-4BF9-4B24-A4D4-20561C30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3A54FD-7987-4288-92F9-35E0A1FE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F467-CA0F-422F-A223-70334C63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0EBB-C4CC-40BF-B1DD-C8B74E5C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DAD-F106-414D-86FC-F3934C56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58E06-35D4-425F-B1AB-8DC3EDC6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C3DAD-097C-47B1-8620-CE008E53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8DEB-D2C9-4A15-AC5B-9F390797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E6E4-52E4-4ABB-B5B8-C12EF6D1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E61AA-86AA-444A-B660-7166DC18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16D5-93A5-4955-AF2B-99D73953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B6DA5-6622-43ED-BF17-ACA8D445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DFCEE-524E-44BF-A224-899D893C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8E0A0-E719-47E3-B6DE-0D4F4111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461E7-805D-4225-BCEA-261C7135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6DF-52E6-4A1F-8D76-D928C314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1B108-65BC-4DB8-8520-1C8CF6DE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44095-C2C6-4289-9EDC-6BAE2B44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F7B2A-910D-4C90-A698-5A569F91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E2873-3CAE-4A62-95F8-59180B93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A3BE6-B39C-425B-AC31-2577823F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6FC88-6911-43A9-B426-C3AA90CB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0B35B-C39D-48BB-ADC1-B5FAAB25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8A78A-713C-41A9-BF69-0C6F630F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5AE17-4D6C-4591-A623-0C17EC7D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D4FA9-879B-40CC-BCF8-D8655D7C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C33-F5E6-4519-A203-4F27B475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A4F49-F3CC-4BC3-A75F-2C60A7CE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1F427-D1E1-4180-9390-CC9C4938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58433-5777-484A-8640-54E5C427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007C-582C-42BE-91A0-4C227C34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6608E-0D53-491F-9703-65AC6F95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40DC-0E2B-460F-A66A-3CA9EFB9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1F869-99F0-46AA-8858-FB970C8F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9FD46-C324-4A61-92C3-DFEA791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F775D-5D8B-4E45-B822-E21F9730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02FA2-14A5-444E-BF29-D59BEE9F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39A-8BA4-4D1F-8BA6-EA3AF209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85518-3211-4DA1-86F3-4E0D6CD6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402B1-7ADD-4EEC-9544-F0B6737C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DF53C-0239-4142-BF5E-FA46515F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E5BF6-A178-494C-BB8B-68338119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651E7-1409-49FF-B578-2D2CC888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ED216-C091-435D-9C77-B32E9382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98129-10F1-4066-8A87-A4434715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654DB-E881-4677-89EE-7DBFFC44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79C84-F015-4612-B9EF-74C8D528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123DA-505D-41D7-86B0-31AB525F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69B-B1B2-4081-B1F1-61DD6CC0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A93C2-15B9-4684-B00F-B886EFDF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BCEAF-34FB-4434-ADA1-C0108D35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5F78-D3CB-4D48-9E82-2394BAD4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89EE1-6EA5-4B20-A10C-462F5388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BE59E-6E74-4D2D-B47E-157628AA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D4518-AAED-4561-AADA-DB5C6B89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1C4E-56A2-44FF-B9D2-55BE61BD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548F2-5CD5-4B15-9C3F-C4DCCE1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32572-F844-40C3-BE09-977B9F36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1B507-A86A-4D96-A46E-1D3EB3D6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91C-FD67-4956-B83E-63BBE67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EDD16-FBB4-40AB-8D74-F364F5FA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7EFA6-2467-4842-9480-28D74604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4FB35-2EA4-4AA2-96AB-14370CA2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7CF76-6C56-4EA3-8DB3-AAB6B2CD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F6202-E9AD-4CF8-B143-10419226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E3A6E-62AD-4AEE-90C0-FD1E2A5C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096C5-2785-416C-B68F-12751627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8F5BA-6A3A-4E84-AA42-7513CF3F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005DC-D885-4501-969C-0766A360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8369A-8DE3-4563-A65C-F76EE308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5CEB-16C0-4755-9EA2-22051A5785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651F-D00E-41E5-90C5-7C7AA28E75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45C9-AB59-4D7B-8AC5-DC362E24E1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5A8B-3294-4E46-BDFA-D47B8E2F60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7283-475F-4066-9B80-6239E4FAD5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D325-0CA0-472C-AD24-2C2DFD039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B399-7794-4B4C-BA02-15847C249B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516D-2B90-46C8-B585-D263C6864A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2C80-A2C9-485F-951A-69BF2FF829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E191-8348-413F-9AC3-B090A8981B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AC8C-1F4F-4C52-9401-BEC1867AFB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6437-CA15-40EA-AE5C-6F9465C186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F2EB-7ADE-4B24-956F-C29EE32622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EAB3-A324-4AAC-AA8B-54270708ED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27D2-3FB9-4D7E-A00B-077C5E5B6B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EA1C-5C43-49AF-AE0E-9F3A42831B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8F42-A523-4A52-941A-C7BBA9A0B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D7B8-40EE-41F7-BD69-E4099C83A2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DC37-C412-47F2-89D7-0A7A0FDEC7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9CAA-3A3B-42BB-88AF-3A383B224B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8DBE-B1F9-4CFB-AC45-7AC0CABBDD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A7BE-C83E-40B5-BC9B-0BDE546EC5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47AC-A6C1-4F2D-A312-3B598622EC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F5D8-4DF6-4268-8F1D-842E49382B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459B-6437-4366-A4E6-2EEEABD86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DAAF-E04F-471C-8F17-1986E13900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954A-7820-4A09-BEFF-63331D12C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CF0F-E381-470D-AEAE-D93040C523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DE45-9DFA-4B71-A2AD-2D60899048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2421-C3EC-4E05-8206-57234F5C5C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769-8E1B-49B7-9D2A-365DBD78F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4F7E-E7C7-4CE8-9318-6543C93A13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2E16-8365-4CA2-8AAD-FD2CDEC5F7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90FA-0B9D-4295-AE29-4411DA600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11AA-6A63-4E73-A1DD-D6ED813855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FF03-AA35-4A63-81A2-F7C6C5F343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1892-A7CD-4D90-8E7E-BDF899915F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2E3B-C459-4081-A4D5-8A4C4E3265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C431-A3F9-4A29-B6B0-2BDE4E56DC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2959-F778-447C-80A5-88DFD5D0AB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8C1E-70AF-43F1-A51A-E4B5E5A83B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E9C9-891B-40DA-8B04-5FF2C0022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5A12-59BE-400A-9458-4484628D5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86F0-40A1-4805-B270-84A4A5F120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2E49-6AAF-4882-B936-CF019F4BFE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FEBD-11BD-43CC-BED8-AFAEE5965E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19FB-8FC2-47BC-9E19-AB56CAAA07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C339-D475-45D5-B85E-7113714F55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FC3-8E9E-44E5-85A1-55D19500EA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457D-A6DE-421B-AB50-676BC11870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505560" cy="99036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2895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79873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105760" cy="4848480"/>
          </a:xfrm>
          <a:prstGeom prst="rect">
            <a:avLst/>
          </a:prstGeom>
          <a:ln w="0">
            <a:noFill/>
          </a:ln>
        </p:spPr>
      </p:pic>
      <p:pic>
        <p:nvPicPr>
          <p:cNvPr id="1472" name="图片 79874" descr=""/>
          <p:cNvPicPr/>
          <p:nvPr/>
        </p:nvPicPr>
        <p:blipFill>
          <a:blip r:embed="rId2"/>
          <a:stretch/>
        </p:blipFill>
        <p:spPr>
          <a:xfrm>
            <a:off x="1116000" y="5516640"/>
            <a:ext cx="5676840" cy="1341360"/>
          </a:xfrm>
          <a:prstGeom prst="rect">
            <a:avLst/>
          </a:prstGeom>
          <a:ln w="0">
            <a:noFill/>
          </a:ln>
        </p:spPr>
      </p:pic>
      <p:sp>
        <p:nvSpPr>
          <p:cNvPr id="1473" name="矩形 79875"/>
          <p:cNvSpPr/>
          <p:nvPr/>
        </p:nvSpPr>
        <p:spPr>
          <a:xfrm>
            <a:off x="7935840" y="3540240"/>
            <a:ext cx="32400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78849" descr=""/>
          <p:cNvPicPr/>
          <p:nvPr/>
        </p:nvPicPr>
        <p:blipFill>
          <a:blip r:embed="rId1"/>
          <a:stretch/>
        </p:blipFill>
        <p:spPr>
          <a:xfrm>
            <a:off x="471600" y="1085760"/>
            <a:ext cx="8200800" cy="4686480"/>
          </a:xfrm>
          <a:prstGeom prst="rect">
            <a:avLst/>
          </a:prstGeom>
          <a:ln w="0">
            <a:noFill/>
          </a:ln>
        </p:spPr>
      </p:pic>
      <p:sp>
        <p:nvSpPr>
          <p:cNvPr id="1475" name="矩形 78850"/>
          <p:cNvSpPr/>
          <p:nvPr/>
        </p:nvSpPr>
        <p:spPr>
          <a:xfrm>
            <a:off x="3851280" y="1052640"/>
            <a:ext cx="79200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78851"/>
          <p:cNvSpPr/>
          <p:nvPr/>
        </p:nvSpPr>
        <p:spPr>
          <a:xfrm>
            <a:off x="6632640" y="2100240"/>
            <a:ext cx="103500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78852"/>
          <p:cNvSpPr/>
          <p:nvPr/>
        </p:nvSpPr>
        <p:spPr>
          <a:xfrm>
            <a:off x="3060720" y="2633760"/>
            <a:ext cx="5745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77825" descr=""/>
          <p:cNvPicPr/>
          <p:nvPr/>
        </p:nvPicPr>
        <p:blipFill>
          <a:blip r:embed="rId1"/>
          <a:stretch/>
        </p:blipFill>
        <p:spPr>
          <a:xfrm>
            <a:off x="528480" y="2367000"/>
            <a:ext cx="8087040" cy="2124000"/>
          </a:xfrm>
          <a:prstGeom prst="rect">
            <a:avLst/>
          </a:prstGeom>
          <a:ln w="0">
            <a:noFill/>
          </a:ln>
        </p:spPr>
      </p:pic>
      <p:sp>
        <p:nvSpPr>
          <p:cNvPr id="1479" name="矩形 77826"/>
          <p:cNvSpPr/>
          <p:nvPr/>
        </p:nvSpPr>
        <p:spPr>
          <a:xfrm>
            <a:off x="3635280" y="2997360"/>
            <a:ext cx="1081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77827"/>
          <p:cNvSpPr/>
          <p:nvPr/>
        </p:nvSpPr>
        <p:spPr>
          <a:xfrm>
            <a:off x="6388200" y="3016080"/>
            <a:ext cx="1081080" cy="3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77828"/>
          <p:cNvSpPr/>
          <p:nvPr/>
        </p:nvSpPr>
        <p:spPr>
          <a:xfrm>
            <a:off x="1692360" y="4076640"/>
            <a:ext cx="25383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76801" descr=""/>
          <p:cNvPicPr/>
          <p:nvPr/>
        </p:nvPicPr>
        <p:blipFill>
          <a:blip r:embed="rId1"/>
          <a:stretch/>
        </p:blipFill>
        <p:spPr>
          <a:xfrm>
            <a:off x="547560" y="1633680"/>
            <a:ext cx="8048880" cy="3590640"/>
          </a:xfrm>
          <a:prstGeom prst="rect">
            <a:avLst/>
          </a:prstGeom>
          <a:ln w="0">
            <a:noFill/>
          </a:ln>
        </p:spPr>
      </p:pic>
      <p:sp>
        <p:nvSpPr>
          <p:cNvPr id="1483" name="矩形 76802"/>
          <p:cNvSpPr/>
          <p:nvPr/>
        </p:nvSpPr>
        <p:spPr>
          <a:xfrm>
            <a:off x="1654200" y="3257640"/>
            <a:ext cx="21258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76803"/>
          <p:cNvSpPr/>
          <p:nvPr/>
        </p:nvSpPr>
        <p:spPr>
          <a:xfrm>
            <a:off x="6730920" y="3781440"/>
            <a:ext cx="10098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76804"/>
          <p:cNvSpPr/>
          <p:nvPr/>
        </p:nvSpPr>
        <p:spPr>
          <a:xfrm>
            <a:off x="6902280" y="4324320"/>
            <a:ext cx="10098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89089" descr=""/>
          <p:cNvPicPr/>
          <p:nvPr/>
        </p:nvPicPr>
        <p:blipFill>
          <a:blip r:embed="rId1"/>
          <a:stretch/>
        </p:blipFill>
        <p:spPr>
          <a:xfrm>
            <a:off x="495360" y="1585800"/>
            <a:ext cx="8153280" cy="3686400"/>
          </a:xfrm>
          <a:prstGeom prst="rect">
            <a:avLst/>
          </a:prstGeom>
          <a:ln w="0">
            <a:noFill/>
          </a:ln>
        </p:spPr>
      </p:pic>
      <p:sp>
        <p:nvSpPr>
          <p:cNvPr id="1487" name="矩形 89090"/>
          <p:cNvSpPr/>
          <p:nvPr/>
        </p:nvSpPr>
        <p:spPr>
          <a:xfrm>
            <a:off x="2120760" y="3247920"/>
            <a:ext cx="115092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89091"/>
          <p:cNvSpPr/>
          <p:nvPr/>
        </p:nvSpPr>
        <p:spPr>
          <a:xfrm>
            <a:off x="5959440" y="3247920"/>
            <a:ext cx="115092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图片 90113" descr=""/>
          <p:cNvPicPr/>
          <p:nvPr/>
        </p:nvPicPr>
        <p:blipFill>
          <a:blip r:embed="rId1"/>
          <a:stretch/>
        </p:blipFill>
        <p:spPr>
          <a:xfrm>
            <a:off x="523800" y="1752480"/>
            <a:ext cx="8096400" cy="3353040"/>
          </a:xfrm>
          <a:prstGeom prst="rect">
            <a:avLst/>
          </a:prstGeom>
          <a:ln w="0">
            <a:noFill/>
          </a:ln>
        </p:spPr>
      </p:pic>
      <p:sp>
        <p:nvSpPr>
          <p:cNvPr id="1490" name="矩形 90114"/>
          <p:cNvSpPr/>
          <p:nvPr/>
        </p:nvSpPr>
        <p:spPr>
          <a:xfrm>
            <a:off x="1073160" y="2828880"/>
            <a:ext cx="25383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图片 90115" descr=""/>
          <p:cNvPicPr/>
          <p:nvPr/>
        </p:nvPicPr>
        <p:blipFill>
          <a:blip r:embed="rId2"/>
          <a:stretch/>
        </p:blipFill>
        <p:spPr>
          <a:xfrm>
            <a:off x="3492360" y="2637000"/>
            <a:ext cx="42674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91137" descr=""/>
          <p:cNvPicPr/>
          <p:nvPr/>
        </p:nvPicPr>
        <p:blipFill>
          <a:blip r:embed="rId1"/>
          <a:stretch/>
        </p:blipFill>
        <p:spPr>
          <a:xfrm>
            <a:off x="495360" y="12193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493" name="矩形 91138"/>
          <p:cNvSpPr/>
          <p:nvPr/>
        </p:nvSpPr>
        <p:spPr>
          <a:xfrm>
            <a:off x="774072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5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219480" cy="762120"/>
          </a:xfrm>
          <a:prstGeom prst="rect">
            <a:avLst/>
          </a:prstGeom>
          <a:ln w="0">
            <a:noFill/>
          </a:ln>
        </p:spPr>
      </p:pic>
      <p:pic>
        <p:nvPicPr>
          <p:cNvPr id="1435" name="图片 8806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429760" cy="313344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8067"/>
          <p:cNvSpPr/>
          <p:nvPr/>
        </p:nvSpPr>
        <p:spPr>
          <a:xfrm>
            <a:off x="1763640" y="1916280"/>
            <a:ext cx="3319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68"/>
          <p:cNvSpPr/>
          <p:nvPr/>
        </p:nvSpPr>
        <p:spPr>
          <a:xfrm>
            <a:off x="3201840" y="1925640"/>
            <a:ext cx="3319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69"/>
          <p:cNvSpPr/>
          <p:nvPr/>
        </p:nvSpPr>
        <p:spPr>
          <a:xfrm>
            <a:off x="7164360" y="1925640"/>
            <a:ext cx="5763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2"/>
          <p:cNvSpPr/>
          <p:nvPr/>
        </p:nvSpPr>
        <p:spPr>
          <a:xfrm>
            <a:off x="6507000" y="2630520"/>
            <a:ext cx="5763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3"/>
          <p:cNvSpPr/>
          <p:nvPr/>
        </p:nvSpPr>
        <p:spPr>
          <a:xfrm>
            <a:off x="1820880" y="3668760"/>
            <a:ext cx="5763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4"/>
          <p:cNvSpPr/>
          <p:nvPr/>
        </p:nvSpPr>
        <p:spPr>
          <a:xfrm>
            <a:off x="8354880" y="3668760"/>
            <a:ext cx="3207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75"/>
          <p:cNvSpPr/>
          <p:nvPr/>
        </p:nvSpPr>
        <p:spPr>
          <a:xfrm>
            <a:off x="1068480" y="4030560"/>
            <a:ext cx="3207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8076"/>
          <p:cNvSpPr/>
          <p:nvPr/>
        </p:nvSpPr>
        <p:spPr>
          <a:xfrm>
            <a:off x="1420920" y="4373640"/>
            <a:ext cx="3204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8077"/>
          <p:cNvSpPr/>
          <p:nvPr/>
        </p:nvSpPr>
        <p:spPr>
          <a:xfrm>
            <a:off x="2840040" y="4373640"/>
            <a:ext cx="3207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8078"/>
          <p:cNvSpPr/>
          <p:nvPr/>
        </p:nvSpPr>
        <p:spPr>
          <a:xfrm>
            <a:off x="7278840" y="4383000"/>
            <a:ext cx="60624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87041" descr=""/>
          <p:cNvPicPr/>
          <p:nvPr/>
        </p:nvPicPr>
        <p:blipFill>
          <a:blip r:embed="rId1"/>
          <a:stretch/>
        </p:blipFill>
        <p:spPr>
          <a:xfrm>
            <a:off x="476280" y="1623960"/>
            <a:ext cx="8191440" cy="3610080"/>
          </a:xfrm>
          <a:prstGeom prst="rect">
            <a:avLst/>
          </a:prstGeom>
          <a:ln w="0">
            <a:noFill/>
          </a:ln>
        </p:spPr>
      </p:pic>
      <p:sp>
        <p:nvSpPr>
          <p:cNvPr id="1447" name="矩形 87042"/>
          <p:cNvSpPr/>
          <p:nvPr/>
        </p:nvSpPr>
        <p:spPr>
          <a:xfrm>
            <a:off x="2992320" y="4525920"/>
            <a:ext cx="10033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87043"/>
          <p:cNvSpPr/>
          <p:nvPr/>
        </p:nvSpPr>
        <p:spPr>
          <a:xfrm>
            <a:off x="6443640" y="4508640"/>
            <a:ext cx="17287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7048"/>
          <p:cNvSpPr/>
          <p:nvPr/>
        </p:nvSpPr>
        <p:spPr>
          <a:xfrm>
            <a:off x="3132000" y="494172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7049"/>
          <p:cNvSpPr/>
          <p:nvPr/>
        </p:nvSpPr>
        <p:spPr>
          <a:xfrm>
            <a:off x="6199200" y="4903920"/>
            <a:ext cx="175752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86017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67560" cy="4029120"/>
          </a:xfrm>
          <a:prstGeom prst="rect">
            <a:avLst/>
          </a:prstGeom>
          <a:ln w="0">
            <a:noFill/>
          </a:ln>
        </p:spPr>
      </p:pic>
      <p:pic>
        <p:nvPicPr>
          <p:cNvPr id="1452" name="图片 86018" descr=""/>
          <p:cNvPicPr/>
          <p:nvPr/>
        </p:nvPicPr>
        <p:blipFill>
          <a:blip r:embed="rId2"/>
          <a:stretch/>
        </p:blipFill>
        <p:spPr>
          <a:xfrm>
            <a:off x="395280" y="5013360"/>
            <a:ext cx="5924520" cy="1476360"/>
          </a:xfrm>
          <a:prstGeom prst="rect">
            <a:avLst/>
          </a:prstGeom>
          <a:ln w="0">
            <a:noFill/>
          </a:ln>
        </p:spPr>
      </p:pic>
      <p:sp>
        <p:nvSpPr>
          <p:cNvPr id="1453" name="矩形 86019"/>
          <p:cNvSpPr/>
          <p:nvPr/>
        </p:nvSpPr>
        <p:spPr>
          <a:xfrm>
            <a:off x="8244000" y="1700280"/>
            <a:ext cx="323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86020"/>
          <p:cNvSpPr/>
          <p:nvPr/>
        </p:nvSpPr>
        <p:spPr>
          <a:xfrm>
            <a:off x="755640" y="3429000"/>
            <a:ext cx="15368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图片 86021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648160" cy="1542960"/>
          </a:xfrm>
          <a:prstGeom prst="rect">
            <a:avLst/>
          </a:prstGeom>
          <a:ln w="0">
            <a:noFill/>
          </a:ln>
        </p:spPr>
      </p:pic>
      <p:sp>
        <p:nvSpPr>
          <p:cNvPr id="1456" name="矩形 86022"/>
          <p:cNvSpPr/>
          <p:nvPr/>
        </p:nvSpPr>
        <p:spPr>
          <a:xfrm>
            <a:off x="717480" y="5372280"/>
            <a:ext cx="1536840" cy="30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图片 86023" descr=""/>
          <p:cNvPicPr/>
          <p:nvPr/>
        </p:nvPicPr>
        <p:blipFill>
          <a:blip r:embed="rId4"/>
          <a:stretch/>
        </p:blipFill>
        <p:spPr>
          <a:xfrm>
            <a:off x="3348000" y="5373720"/>
            <a:ext cx="27716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84994" descr=""/>
          <p:cNvPicPr/>
          <p:nvPr/>
        </p:nvPicPr>
        <p:blipFill>
          <a:blip r:embed="rId1"/>
          <a:stretch/>
        </p:blipFill>
        <p:spPr>
          <a:xfrm>
            <a:off x="357120" y="2305080"/>
            <a:ext cx="8429760" cy="22478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84995"/>
          <p:cNvSpPr/>
          <p:nvPr/>
        </p:nvSpPr>
        <p:spPr>
          <a:xfrm>
            <a:off x="852480" y="378936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84996"/>
          <p:cNvSpPr/>
          <p:nvPr/>
        </p:nvSpPr>
        <p:spPr>
          <a:xfrm>
            <a:off x="3414600" y="378936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84997"/>
          <p:cNvSpPr/>
          <p:nvPr/>
        </p:nvSpPr>
        <p:spPr>
          <a:xfrm>
            <a:off x="6072120" y="378936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84998"/>
          <p:cNvSpPr/>
          <p:nvPr/>
        </p:nvSpPr>
        <p:spPr>
          <a:xfrm>
            <a:off x="1116000" y="414972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83969" descr=""/>
          <p:cNvPicPr/>
          <p:nvPr/>
        </p:nvPicPr>
        <p:blipFill>
          <a:blip r:embed="rId1"/>
          <a:stretch/>
        </p:blipFill>
        <p:spPr>
          <a:xfrm>
            <a:off x="490680" y="1009800"/>
            <a:ext cx="8162640" cy="48384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83970"/>
          <p:cNvSpPr/>
          <p:nvPr/>
        </p:nvSpPr>
        <p:spPr>
          <a:xfrm>
            <a:off x="7869240" y="488304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82945" descr=""/>
          <p:cNvPicPr/>
          <p:nvPr/>
        </p:nvPicPr>
        <p:blipFill>
          <a:blip r:embed="rId1"/>
          <a:stretch/>
        </p:blipFill>
        <p:spPr>
          <a:xfrm>
            <a:off x="542880" y="1157400"/>
            <a:ext cx="8058240" cy="45432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82946"/>
          <p:cNvSpPr/>
          <p:nvPr/>
        </p:nvSpPr>
        <p:spPr>
          <a:xfrm>
            <a:off x="7916760" y="1197000"/>
            <a:ext cx="3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81921" descr=""/>
          <p:cNvPicPr/>
          <p:nvPr/>
        </p:nvPicPr>
        <p:blipFill>
          <a:blip r:embed="rId1"/>
          <a:stretch/>
        </p:blipFill>
        <p:spPr>
          <a:xfrm>
            <a:off x="533520" y="1109520"/>
            <a:ext cx="8076960" cy="4638960"/>
          </a:xfrm>
          <a:prstGeom prst="rect">
            <a:avLst/>
          </a:prstGeom>
          <a:ln w="0">
            <a:noFill/>
          </a:ln>
        </p:spPr>
      </p:pic>
      <p:sp>
        <p:nvSpPr>
          <p:cNvPr id="1468" name="矩形 81922"/>
          <p:cNvSpPr/>
          <p:nvPr/>
        </p:nvSpPr>
        <p:spPr>
          <a:xfrm>
            <a:off x="7878600" y="2254320"/>
            <a:ext cx="32400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80897" descr=""/>
          <p:cNvPicPr/>
          <p:nvPr/>
        </p:nvPicPr>
        <p:blipFill>
          <a:blip r:embed="rId1"/>
          <a:stretch/>
        </p:blipFill>
        <p:spPr>
          <a:xfrm>
            <a:off x="495360" y="1090440"/>
            <a:ext cx="8153280" cy="4677120"/>
          </a:xfrm>
          <a:prstGeom prst="rect">
            <a:avLst/>
          </a:prstGeom>
          <a:ln w="0">
            <a:noFill/>
          </a:ln>
        </p:spPr>
      </p:pic>
      <p:sp>
        <p:nvSpPr>
          <p:cNvPr id="1470" name="矩形 80898"/>
          <p:cNvSpPr/>
          <p:nvPr/>
        </p:nvSpPr>
        <p:spPr>
          <a:xfrm>
            <a:off x="5068800" y="330192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8:22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